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7331-5AC0-46F8-889E-EA1F7DB98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1B02-1879-4571-9E78-F050DE5B9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9E9A-596A-4F4C-B5D9-23771F145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5DB-8D3D-4EE1-A62B-72CCBAA4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6EC-54B0-4338-BCE9-040112C0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FD9-371E-4A21-80B2-5F7C8F1C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150-7E18-4068-80DC-0AD74F35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56E3-2151-4474-9B47-E6D1D7FE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0C1D-BD52-45C7-9225-15BCBB3D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E24F-B5D0-42D2-9EAD-29279CC3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EFDD-EA30-483E-A682-73EC27DF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CE71-3DF8-4BCA-85D1-14E8D7B5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84B5-E297-4B0F-B1CD-1BA60FEA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E1DF-31F6-4018-B7C8-A56C42CA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71F-B97A-4AC6-BA95-7C2FF236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F3DE-FBCF-422E-851A-EB95F5ED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E41E-CD2C-4A45-9AE3-8B69E723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2A4B-B10B-4F42-9270-84C024B6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9A15-12FA-439B-8A84-F8A33618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BC15-F171-43B8-BDE4-FB0B407A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A3A2-A804-481C-A207-CA1B5857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2EDB-BC72-492D-8B87-F0988D62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65FC-90C7-4C57-BBA0-452FCC60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DA25-DC34-42E5-8D23-FF536E96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009F-0622-46A6-B98A-B178B842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86D-CF81-4812-9E56-E54B81A1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1E47-D91A-4F63-B9CC-0103AFB9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EFF02-6C61-44C7-8C09-D6D7850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23F9-4B85-4E16-9811-019CFC4C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0E190-B233-4AD9-9FAF-13F20C30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F6FC7-61EA-403A-97B6-D380C9A0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0B663-735A-467C-BFED-B69E1BD3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9E493-CFCF-444B-A728-FB97143C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DDD0B-4F07-40BE-A70B-32D2BFE5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57EA1-0C0E-4DA6-9373-E382FD00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964F7-8C38-43CE-B2D4-5D57D3F4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C9E-AE26-4DDE-9047-51EDFBFE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162D-6417-454F-8879-99B58643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F7EBE-3CA9-4C45-88BA-1E9375AB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8031-4843-4426-91C7-478A4D34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19786-E72F-462C-ADAF-BAD6E8AF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C6975-4826-42B5-ADE2-81A3DDD2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D1F2E-CB81-4663-A479-BDE68AD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A88B0-115B-47A2-BD77-EC5DF520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DAFBB-2692-401F-8948-2EF0B632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7971E-7CC0-4950-9A3A-4EBF3C21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991E4-223C-4BA3-A909-091E94DD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4CF-B8A5-47B9-B9C4-65841D50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87A4-2E5E-4969-A691-6D4E07DF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7610E-9D6B-4569-BAAF-F164CBFC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9AD43-5DCD-44A3-B5B9-F8768F3F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39C5-F657-4C73-A624-D0E94055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6AC19-C965-4646-B898-B04DB1D9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208F9-2F66-4726-9428-89EC79DD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CD9D2-3EB5-4A47-853F-5D294E95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79C1D-63CA-4B14-A51A-4D11F34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00341-86C6-4E49-8536-3E370ED7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922B5-7CC4-4E1C-90F7-91A660E3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36D-BF82-43AD-86F6-F7D795B4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5FF8E-6EC8-42A6-9584-0DD26E8F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9F0A6-4C06-446F-A41E-61D354C9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73875-8CCC-438B-853F-A2E858D8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3ADC5-A9CF-40D7-BD2E-D3500BF0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9D60D-C432-4E08-81B0-AA31A6DD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E2464-E102-46A3-8A48-0E4781DA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F41BD-003F-40EC-A912-52D4DFE4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47D6C-8702-4806-85CF-22E0D1C5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3C9DD-30C3-4B8F-B995-83BBBCB6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B60A3-F722-491F-AB3B-F3F30832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641-74E5-4267-AAFC-CA1040F2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DFD5F-A061-4227-ACE7-26CA418F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AD438-D82E-4F97-90CD-3A36FC10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A249F-D2D4-444E-8375-9E664DB9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F6E0F-02EB-45F1-A7CA-70C18612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35D2F-3DDE-4212-98CA-F72E5C5C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BB62F-27B8-4F10-A83F-AF849304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A88BA-F244-40E9-BFCA-51E96E2D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97E9B-BDCE-474F-B885-2C316D1B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6DC79-FF67-434C-A47D-B76D85D5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C0214-1F9A-467D-B639-9BBC9034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094-19F5-474A-B7EF-2D926935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2D939-510D-4AFC-9130-AD82671D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42622-7B51-4401-BA57-D19E43DE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21314-EDDC-4BD8-BAF9-42AAC98D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CF6BD-9840-4F77-BA58-88A23492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93C0A-759A-4F52-8CC0-3E5D77A5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2A5FF-A802-43E7-914E-79D5CAF8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8E957-5770-417B-A612-F80D777B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5B44B-A360-4ADF-B11E-00FE043E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C6D3D-B48C-4B8D-A697-B23A9A22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5B155-F044-42AE-82EB-8DE4E05E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2A8-E686-47E4-8654-752045CE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0D280-8624-42C7-A06E-272D5F7B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E475E-8E0F-42AD-8673-E3419274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D3269-1F38-4E62-8B97-078D3521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97264-5C38-488B-BCCB-071D0372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1C234-A364-4045-BB2C-7F0F5C4F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22D95-DE56-4897-9A73-4D8F033C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DF503-E9EA-4590-8217-43C9DFF4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3638-D8FA-4065-9F9E-8FC76C803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6E4C-CB63-4CF1-B32D-EB8524C428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359D-120E-4FA3-B3FD-7F127F3E8E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0B29-17D6-452A-B7EE-4AA00781AE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4A64-CCEF-4055-9507-B3823F34FA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1341-6F6A-4CE3-BAB2-C587D0B8C3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F5AA-4F8E-40FA-854E-CBD42E092D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643C-B6F4-4DBC-839E-911BEB4F23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0" y="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da 4-6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No Homewor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0" y="1828800"/>
            <a:ext cx="9144000" cy="162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4-16-09  Use your Timeline on the “Jeopardy: Middle Ages” han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id Rome fa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vent help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ark Age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2593080" y="22017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.D. 4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262480" y="2487600"/>
            <a:ext cx="38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usades; it helped in opening up trade and the exchange of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The Siege of Antioch, from a medieval miniature painting, during the First Crusade."/>
          <p:cNvPicPr/>
          <p:nvPr/>
        </p:nvPicPr>
        <p:blipFill>
          <a:blip r:embed="rId1"/>
          <a:stretch/>
        </p:blipFill>
        <p:spPr>
          <a:xfrm>
            <a:off x="0" y="3222720"/>
            <a:ext cx="2971800" cy="3635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8" descr="The Middle Ages:  What was it &#13;&#10;really like to live in the Middle Ages?"/>
          <p:cNvPicPr/>
          <p:nvPr/>
        </p:nvPicPr>
        <p:blipFill>
          <a:blip r:embed="rId2"/>
          <a:srcRect l="14548" t="0" r="15634" b="27279"/>
          <a:stretch/>
        </p:blipFill>
        <p:spPr>
          <a:xfrm>
            <a:off x="2666880" y="304920"/>
            <a:ext cx="4191120" cy="1447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Image:Plague victims blessed by priest.jpg"/>
          <p:cNvPicPr/>
          <p:nvPr/>
        </p:nvPicPr>
        <p:blipFill>
          <a:blip r:embed="rId3"/>
          <a:srcRect l="12684" t="12602" r="11197" b="12602"/>
          <a:stretch/>
        </p:blipFill>
        <p:spPr>
          <a:xfrm>
            <a:off x="3048120" y="3200400"/>
            <a:ext cx="353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crusades"/>
          <p:cNvPicPr/>
          <p:nvPr/>
        </p:nvPicPr>
        <p:blipFill>
          <a:blip r:embed="rId1"/>
          <a:stretch/>
        </p:blipFill>
        <p:spPr>
          <a:xfrm>
            <a:off x="2362320" y="838080"/>
            <a:ext cx="4608360" cy="4461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rusa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457200" y="5029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e4df"/>
                </a:solidFill>
                <a:latin typeface="Tahoma"/>
              </a:rPr>
              <a:t>Around A.D. 1000, Muslims in Jerusalem no longer welcomed Christians visitors. The Christians went on several journeys to try to capture Jerusalem. These journeys were called the Crusad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Christians made long difficult journeys to Jerusalem during the Crusades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7" name="Picture 6" descr="map_of_Crusades2"/>
          <p:cNvPicPr/>
          <p:nvPr/>
        </p:nvPicPr>
        <p:blipFill>
          <a:blip r:embed="rId1"/>
          <a:stretch/>
        </p:blipFill>
        <p:spPr>
          <a:xfrm>
            <a:off x="1525680" y="1600200"/>
            <a:ext cx="609264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9" name="Content Placeholder 3" descr="Pictur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te Middle A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200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Black Death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evastating worldwide pandemic first struck Europe in the mid 1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killed about a third of Europe’s population, an estimated 34 million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Picture 4" descr="stinnocents1"/>
          <p:cNvPicPr/>
          <p:nvPr/>
        </p:nvPicPr>
        <p:blipFill>
          <a:blip r:embed="rId1"/>
          <a:stretch/>
        </p:blipFill>
        <p:spPr>
          <a:xfrm>
            <a:off x="2971800" y="1689120"/>
            <a:ext cx="60199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59436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Bubonic Plag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9907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ed “black death” because a sufferers' skin would blacken due to hemorrhages under the sk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read by fleas and r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inful lymph node swellings called buboes that ooze pus and blo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mage to the skin and underlying tissue until they were covered in dark blot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victims died within four to seven days after infe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d massive depopulation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 in social 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ened influence of Chu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ginated in Asia but was blamed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ws and le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Picture 4" descr="rhooke_flea"/>
          <p:cNvPicPr/>
          <p:nvPr/>
        </p:nvPicPr>
        <p:blipFill>
          <a:blip r:embed="rId1"/>
          <a:stretch/>
        </p:blipFill>
        <p:spPr>
          <a:xfrm>
            <a:off x="6743880" y="0"/>
            <a:ext cx="2400120" cy="1935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plague_art"/>
          <p:cNvPicPr/>
          <p:nvPr/>
        </p:nvPicPr>
        <p:blipFill>
          <a:blip r:embed="rId2"/>
          <a:stretch/>
        </p:blipFill>
        <p:spPr>
          <a:xfrm>
            <a:off x="5715000" y="4724280"/>
            <a:ext cx="3200400" cy="1941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bubo"/>
          <p:cNvPicPr/>
          <p:nvPr/>
        </p:nvPicPr>
        <p:blipFill>
          <a:blip r:embed="rId3"/>
          <a:stretch/>
        </p:blipFill>
        <p:spPr>
          <a:xfrm>
            <a:off x="6324480" y="2590920"/>
            <a:ext cx="25909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dance_of_death"/>
          <p:cNvPicPr/>
          <p:nvPr/>
        </p:nvPicPr>
        <p:blipFill>
          <a:blip r:embed="rId1"/>
          <a:stretch/>
        </p:blipFill>
        <p:spPr>
          <a:xfrm>
            <a:off x="0" y="1198440"/>
            <a:ext cx="929628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plaguemap"/>
          <p:cNvPicPr/>
          <p:nvPr/>
        </p:nvPicPr>
        <p:blipFill>
          <a:blip r:embed="rId1"/>
          <a:stretch/>
        </p:blipFill>
        <p:spPr>
          <a:xfrm>
            <a:off x="1143000" y="762120"/>
            <a:ext cx="7031160" cy="5397480"/>
          </a:xfrm>
          <a:prstGeom prst="rect">
            <a:avLst/>
          </a:prstGeom>
          <a:ln w="0">
            <a:noFill/>
          </a:ln>
        </p:spPr>
      </p:pic>
      <p:sp>
        <p:nvSpPr>
          <p:cNvPr id="380" name="Action Button: Information 2"/>
          <p:cNvSpPr/>
          <p:nvPr/>
        </p:nvSpPr>
        <p:spPr>
          <a:xfrm>
            <a:off x="7543800" y="548640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10800" y="418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375">
                <a:moveTo>
                  <a:pt x="10800" y="455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375">
                <a:moveTo>
                  <a:pt x="8224" y="8611"/>
                </a:moveTo>
                <a:lnTo>
                  <a:pt x="12088" y="8611"/>
                </a:lnTo>
                <a:lnTo>
                  <a:pt x="12088" y="15609"/>
                </a:lnTo>
                <a:lnTo>
                  <a:pt x="13376" y="15609"/>
                </a:lnTo>
                <a:lnTo>
                  <a:pt x="13376" y="16531"/>
                </a:lnTo>
                <a:lnTo>
                  <a:pt x="8224" y="16531"/>
                </a:lnTo>
                <a:lnTo>
                  <a:pt x="8224" y="15609"/>
                </a:lnTo>
                <a:lnTo>
                  <a:pt x="9512" y="15609"/>
                </a:lnTo>
                <a:lnTo>
                  <a:pt x="9512" y="9516"/>
                </a:lnTo>
                <a:lnTo>
                  <a:pt x="8224" y="951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flea"/>
          <p:cNvPicPr/>
          <p:nvPr/>
        </p:nvPicPr>
        <p:blipFill>
          <a:blip r:embed="rId2"/>
          <a:stretch/>
        </p:blipFill>
        <p:spPr>
          <a:xfrm>
            <a:off x="1143000" y="5486400"/>
            <a:ext cx="8636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0:52:30Z</dcterms:created>
  <dc:creator>Selena Ramsey</dc:creator>
  <dc:description/>
  <dc:language>en-US</dc:language>
  <cp:lastModifiedBy>poweruser</cp:lastModifiedBy>
  <dcterms:modified xsi:type="dcterms:W3CDTF">2011-04-05T23:14:27Z</dcterms:modified>
  <cp:revision>39</cp:revision>
  <dc:subject/>
  <dc:title>Slide 1</dc:title>
</cp:coreProperties>
</file>